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F696-5ECD-4681-952D-455D146F7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5FDF2D-8D78-4177-ACD0-6E59217D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9322E-DA8E-4DFD-BED5-0B685885A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40E3C-55D2-431A-A5B7-2CE90BF9B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7B29-1425-4088-A944-78521ECE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A8E7-0414-4C7A-8341-0E60F0CF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0772-2143-4D4C-9696-1DDBBA84E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842F-4483-48D7-8313-E8082242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A979-7532-49C1-BD77-0B96F93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9319-3DE2-4E95-8E71-82C0D1E4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717E-9187-47FB-82BE-CBF30B99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2B90-BA1B-4350-B0BF-5C1D850E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8F235-86AE-4B8C-AA6C-8C904AD4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3031-8A30-4351-B2D8-3876233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67DF-6931-4643-A987-63787733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5AA17-E206-4E29-B2D5-DB74F569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7E75-D9BC-4E15-ACE4-B764245DD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61177-8040-435A-9AD0-C235BFDC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08308-E649-4073-B5F9-57BE6587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59BE-085A-4C5D-92BE-4F86A859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34C84-2CBC-4CFA-8BF6-AE4ACBCA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B2E53-95AC-49AC-9434-3DCFC270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0D395-8D5A-4150-A831-272041AF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E14A-F96E-49CF-A598-3919D0D9B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1DE8-1948-4142-A89B-B71DA654AA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5991-142A-4376-8E3D-A71875ABE0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56067-9430-48C2-9488-E458EB4B85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DFC08-5861-4777-9907-2F496ABA57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Leader Election</a:t>
            </a:r>
            <a:br>
              <a:rPr sz="50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. 3, 4.1, 15.1, 15.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hien-Liang Fo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387E-1146-4B17-AF92-759AB3A645FD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EC0940-479E-4C7B-A7D3-E1D99C4466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Complexity 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838080" y="3048120"/>
          <a:ext cx="7238880" cy="1849320"/>
        </p:xfrm>
        <a:graphic>
          <a:graphicData uri="http://schemas.openxmlformats.org/drawingml/2006/table">
            <a:tbl>
              <a:tblPr/>
              <a:tblGrid>
                <a:gridCol w="2276280"/>
                <a:gridCol w="1658880"/>
                <a:gridCol w="3303720"/>
              </a:tblGrid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mmunic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l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(n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2B02B-C857-48C5-9074-51D26B088B3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D109920-1A61-4FA3-91AE-EB62169EC7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by Hirshberg and Sincla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, O(n)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615000" y="38736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605720" y="4483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22484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05520" y="5549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00600" y="44830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72200" y="4102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7529040" y="4940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462360" y="5778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929200" y="493992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6081840" y="4177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31200" y="388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645680" y="450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42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239240" y="5554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7960" y="4502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2992-8B84-463A-B395-99F52BB176F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70449F2-C4F6-4CA5-90B4-5DF0888DFA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S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e in phases 0, 1, 2,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phas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send UID in both directions for a distance of 2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 of received UID same as L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s UID comes back, continue to next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receives its outbound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300800" y="7491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291520" y="1359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91064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691320" y="2425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386400" y="135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58000" y="9777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214840" y="1816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7148160" y="2654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6615000" y="18158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767640" y="1053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317000" y="762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31480" y="1380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28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925040" y="2430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413760" y="1378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72400" y="838080"/>
            <a:ext cx="838080" cy="457200"/>
          </a:xfrm>
          <a:custGeom>
            <a:avLst/>
            <a:gdLst/>
            <a:ahLst/>
            <a:rect l="l" t="t" r="r" b="b"/>
            <a:pathLst>
              <a:path w="528" h="288">
                <a:moveTo>
                  <a:pt x="528" y="288"/>
                </a:moveTo>
                <a:cubicBezTo>
                  <a:pt x="476" y="192"/>
                  <a:pt x="424" y="96"/>
                  <a:pt x="336" y="48"/>
                </a:cubicBezTo>
                <a:cubicBezTo>
                  <a:pt x="248" y="0"/>
                  <a:pt x="124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1676520"/>
            <a:ext cx="355680" cy="914400"/>
          </a:xfrm>
          <a:custGeom>
            <a:avLst/>
            <a:gdLst/>
            <a:ahLst/>
            <a:rect l="l" t="t" r="r" b="b"/>
            <a:pathLst>
              <a:path w="224" h="576">
                <a:moveTo>
                  <a:pt x="192" y="0"/>
                </a:moveTo>
                <a:cubicBezTo>
                  <a:pt x="208" y="144"/>
                  <a:pt x="224" y="288"/>
                  <a:pt x="192" y="384"/>
                </a:cubicBezTo>
                <a:cubicBezTo>
                  <a:pt x="160" y="480"/>
                  <a:pt x="80" y="528"/>
                  <a:pt x="0" y="57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477120" y="431640"/>
            <a:ext cx="2286000" cy="1016280"/>
          </a:xfrm>
          <a:custGeom>
            <a:avLst/>
            <a:gdLst/>
            <a:ahLst/>
            <a:rect l="l" t="t" r="r" b="b"/>
            <a:pathLst>
              <a:path w="1440" h="640">
                <a:moveTo>
                  <a:pt x="1440" y="640"/>
                </a:moveTo>
                <a:cubicBezTo>
                  <a:pt x="1424" y="448"/>
                  <a:pt x="1408" y="256"/>
                  <a:pt x="1248" y="160"/>
                </a:cubicBezTo>
                <a:cubicBezTo>
                  <a:pt x="1088" y="64"/>
                  <a:pt x="688" y="0"/>
                  <a:pt x="480" y="64"/>
                </a:cubicBezTo>
                <a:cubicBezTo>
                  <a:pt x="272" y="128"/>
                  <a:pt x="136" y="336"/>
                  <a:pt x="0" y="5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10280" y="1600200"/>
            <a:ext cx="1981440" cy="1574640"/>
          </a:xfrm>
          <a:custGeom>
            <a:avLst/>
            <a:gdLst/>
            <a:ahLst/>
            <a:rect l="l" t="t" r="r" b="b"/>
            <a:pathLst>
              <a:path w="1248" h="992">
                <a:moveTo>
                  <a:pt x="1104" y="0"/>
                </a:moveTo>
                <a:cubicBezTo>
                  <a:pt x="1176" y="232"/>
                  <a:pt x="1248" y="464"/>
                  <a:pt x="1152" y="624"/>
                </a:cubicBezTo>
                <a:cubicBezTo>
                  <a:pt x="1056" y="784"/>
                  <a:pt x="720" y="928"/>
                  <a:pt x="528" y="960"/>
                </a:cubicBezTo>
                <a:cubicBezTo>
                  <a:pt x="336" y="992"/>
                  <a:pt x="168" y="904"/>
                  <a:pt x="0" y="81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1828800"/>
            <a:ext cx="266760" cy="685800"/>
          </a:xfrm>
          <a:custGeom>
            <a:avLst/>
            <a:gdLst/>
            <a:ahLst/>
            <a:rect l="l" t="t" r="r" b="b"/>
            <a:pathLst>
              <a:path w="168" h="432">
                <a:moveTo>
                  <a:pt x="0" y="432"/>
                </a:moveTo>
                <a:cubicBezTo>
                  <a:pt x="60" y="372"/>
                  <a:pt x="120" y="312"/>
                  <a:pt x="144" y="240"/>
                </a:cubicBezTo>
                <a:cubicBezTo>
                  <a:pt x="168" y="168"/>
                  <a:pt x="156" y="84"/>
                  <a:pt x="144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914400"/>
            <a:ext cx="533160" cy="380880"/>
          </a:xfrm>
          <a:custGeom>
            <a:avLst/>
            <a:gdLst/>
            <a:ahLst/>
            <a:rect l="l" t="t" r="r" b="b"/>
            <a:pathLst>
              <a:path w="336" h="240">
                <a:moveTo>
                  <a:pt x="0" y="0"/>
                </a:moveTo>
                <a:cubicBezTo>
                  <a:pt x="92" y="28"/>
                  <a:pt x="184" y="56"/>
                  <a:pt x="240" y="96"/>
                </a:cubicBezTo>
                <a:cubicBezTo>
                  <a:pt x="296" y="136"/>
                  <a:pt x="316" y="188"/>
                  <a:pt x="336" y="24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0535-7764-4539-99B8-99EBFE0F5C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CD991E9C-1153-4F8F-AACF-1057595114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son-base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CS and HS are comparison-based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compare U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-bound i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6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is the lower bound in gener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7F82B-AD3E-41B7-BFE4-890CF840724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0C35369-2856-4D15-A9DB-6209D5ABFA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comparison-based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communication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known to all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9A8D-DBC5-4C33-A22A-F7BB7E5FD49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BF943F5-8C56-4CCA-BFF0-8E58C8986C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phases 1, 2, 3, 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ounds, rounds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1, …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 node with UI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ists, it is circulated around the 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reach round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)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1 and the node with UID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t received any UID before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 with minimum UID becomes the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29400" y="12063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520120" y="1816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13924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9920" y="28828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15000" y="1816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986600" y="1434960"/>
            <a:ext cx="5335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8443440" y="22734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7376760" y="311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6843600" y="2273040"/>
            <a:ext cx="1526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996240" y="15109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45600" y="1219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560080" y="1838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56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153640" y="2887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642360" y="1835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79025-838A-4822-9D2D-61B4C9A947A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3B306-5CAA-4DD7-8480-8824FA3DF4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Slice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found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essages are sent except between rounds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) ·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1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·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ssages are 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 complexity is n ·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bound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72ED5-F8CB-4F02-87F4-CA2ECFC00E4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CB4ADB0-4A0D-4D82-A0C6-1A71620D12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bleSpeed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non-comparison-base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require knowledg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send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ID travels one hop ever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process keeps track of lowest UID seen and discards anything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 returns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84BF4-E14D-4058-99BE-087FC4B813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34EB0F4-0C47-4387-8F1B-CEE7CFD048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riableSpeeds Algorithm (Cont.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ity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ssage:  2 ·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: O(n ·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Um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rageous unbounded time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algorithm serves as a counterexampl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ws that impossibility result cannot be pro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9EFB4-A154-4DE4-B9C8-FBE21E260D8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C2DAC74-66E0-4387-9896-361CDF96CD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Comparison-based algorith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achieve message costs of less than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, but at the cost of unbounded time complex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bounded time complexity, the message lower bound for non-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3.7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DDA03-1BE6-4AB9-B0D3-A4A8BB37EFC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252BE32-63F5-4F7C-94DE-79B60D10B6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der 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3809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processes are connected in a di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process eventually declares itself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ken ring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communication (e.g., lighthouse rou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12408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11444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334120" y="2133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562720" y="1523520"/>
            <a:ext cx="914400" cy="228600"/>
          </a:xfrm>
          <a:prstGeom prst="line">
            <a:avLst/>
          </a:prstGeom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3800" y="133200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40480" y="201780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409720" y="2209680"/>
            <a:ext cx="1143000" cy="152640"/>
          </a:xfrm>
          <a:prstGeom prst="line">
            <a:avLst/>
          </a:prstGeom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E7B22-CC6F-42EE-BB03-603A373B8A3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233F3DE-5A92-4C51-B853-ACF2456EBB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2: General Synch. Net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each with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dom conn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14800" y="16002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81480" y="28195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819520" y="2286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3352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16765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3048120" y="182880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267080" y="30481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00400" y="266688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276720" y="198108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1828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4191120" y="205740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2133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9548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048120" y="2666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 flipV="1">
            <a:off x="3352680" y="3429000"/>
            <a:ext cx="457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H="1" flipV="1">
            <a:off x="4495320" y="1980720"/>
            <a:ext cx="7621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849760" y="2286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515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156640" y="16714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216760" y="2803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37320" y="33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32560" y="31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A743C-E057-4FE0-86A5-B7C824D6C77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5A9646-3514-417F-8A0A-F6128F62C9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A030D-5D00-4943-8B77-626911B13B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C19746-3A28-4109-9E34-BF288EAA06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remembers the largest UID it has se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ach round, propagat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all outgoing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ounds, 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wn UID, declare self as l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B332A-E0DF-4E61-B7C2-A12A9780D3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9EA64D7-DB0D-441E-89FA-38F1CD0EB3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odMax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ally a generalization of LC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 complexity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· |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| is the number of outgoing ed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if only the upper-bound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46040-3772-4335-AB9F-789448C2933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825EA33-C544-449A-8E19-7C2D36F14A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loodMax Algorithm Proof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that af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ounds,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reached all nodes within diameter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node with the maximum 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im that whe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ll nodes will have received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213600" y="4191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280280" y="5410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917960" y="487692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985000" y="5943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203960" y="4267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5146560" y="4419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65880" y="5638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99200" y="5257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375160" y="4572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708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6289560" y="4648320"/>
            <a:ext cx="1526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0888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94280" y="5715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46560" y="5257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451480" y="6019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 flipV="1">
            <a:off x="6594120" y="4572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48560" y="4876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25032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255080" y="4262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315560" y="539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036120" y="5965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31000" y="5710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F0B3A9-ED72-4245-88BB-7BC9C12D737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AD3082-22B2-402A-A14A-BDD8205F56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ivial optimization of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broadcast the UI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changed in the current 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ness is obvious, but the proof is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491F-E2AF-47B2-9B6A-1DE3ED72D9D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5FDA7C2-D867-451C-8FB6-CDBD9782D7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of meth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lly relate OptFloodMax to Flood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lag to each n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broadcas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prov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ut-nbr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ew-info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ust b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214C-280F-471D-84A3-97124C70BB4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A5010B3-4FE2-4290-B8FC-DFDCBE49BC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FloodMax Proof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lete the proof, relate the states of OptFloodMax to Flood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uming both are started simultaneously, after rou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the states of the two algorithms are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Lynch 4.1 for proof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980BD-3FD4-4ECD-9910-F142E12EAE7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A3F6802-1A66-4953-A109-CB485BCC17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Net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cesses connected via reliable FIFO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cess distinguished by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do not operate in lock-step 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/O Automata to model processes and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i="1" lang="en-US" sz="2400" spc="-1" strike="noStrike" u="sng" baseline="-25000">
                <a:solidFill>
                  <a:srgbClr val="000000"/>
                </a:solidFill>
                <a:uFillTx/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eiv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A087B-769D-489E-AADC-2EBABE558E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20720F6-B340-47AB-BB9E-C7A22081CE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3: A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arranged in a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bidirectional o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y or may not be 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wise neighbor can be distinguished from counterclockwise neigh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453440" y="18921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443800" y="2502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062920" y="35686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843600" y="356868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539040" y="25020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910640" y="2120760"/>
            <a:ext cx="5331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8367480" y="29592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7300440" y="37972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6767280" y="29588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19920" y="21967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46964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483760" y="2523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880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077680" y="357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566400" y="2521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F1BD0-6EAE-4B03-A0A8-D0EF7BEDEC3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1D825B3-07AA-41D0-8A45-B59DFB9281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ossibility Result for Identical proce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not solve leader election problem with identical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the sequence of st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process will declare self as leader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: Assume identical processes distinguished by a unique identifier (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ID is a positive 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2836-20BE-4094-BBA7-42F0AA69CF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495B01F-F072-4328-B57D-6ADF047CE5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 as synchronous LCR algorithm excep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d buffer of each process must be able to hold up to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lgorithm is intuitively correct, but the proof is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know where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relate location of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he 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7B5CE-A214-4249-9DAF-20765E89F0C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93E33BB-01E2-4E66-91C6-E8361B779E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LCR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 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for 0 ≤ r ≤ n-1, eventually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ars in the buffer sen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 baseline="-34000">
                <a:solidFill>
                  <a:srgbClr val="000000"/>
                </a:solidFill>
                <a:latin typeface="Arial"/>
              </a:rPr>
              <a:t>max+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 that UID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ma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eventually appear on channel connecting to the input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FA39-B0B6-4C28-97F7-A7C9D8A1C48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DDCE596-6A61-409F-80D8-C63928A94C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HS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nchronous HS algorithm can also be trivially modified to work in asynchronous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make sure all channels can handle message pile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5A38-C8E0-4FA4-8E49-0653737E9E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8624E2-3E95-44E2-8689-B0F9706FF2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directional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s on asynchronously determined pha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s an arbitrary process as the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2D611-4388-4B99-B61F-4AB843E1EFC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B2ABB47-8D57-46B0-BDA5-14259F28AD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an b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irst phase, all nodes send their UID two hops clockw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UID of immediate counter-clockwise neighbor is highest of the three, adopt it as its new UID and remain a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enter relay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llowing phases, active node sends their new UID to their two clock-wise active neighbors and rep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ctive node sees that its immediate counterclockwise active neighbor has the same UID, declare self as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CDF9-33D5-42D2-BABD-AFC0B20CD45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1D1DC56-4F6B-4A36-A40E-A206669F22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90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20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981080" y="320040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1168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9810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168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320040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02096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00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162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1400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1171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76720" y="23623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06960" y="2362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2670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267080" y="23623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7672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68604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481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368604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5744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43040" y="289548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638680" y="23623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629400" y="32004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29400" y="2362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38680" y="320040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048360" y="2514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104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6048360" y="3352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581976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753080" y="29718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1523880"/>
            <a:ext cx="1447920" cy="762120"/>
          </a:xfrm>
          <a:prstGeom prst="cloudCallout">
            <a:avLst>
              <a:gd name="adj1" fmla="val -51754"/>
              <a:gd name="adj2" fmla="val 8374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9619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925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952640" y="5105520"/>
            <a:ext cx="38088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98324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526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832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619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9925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3716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337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13716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11430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14600" y="4800600"/>
            <a:ext cx="53352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17196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20220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162320" y="5105520"/>
            <a:ext cx="381240" cy="380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19292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162320" y="42670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1719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58128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33526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5305320" y="4267080"/>
            <a:ext cx="38124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3592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2960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29604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305320" y="5105520"/>
            <a:ext cx="38124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1500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4771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5715000" y="5257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48640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10440" y="4267080"/>
            <a:ext cx="380880" cy="381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20116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201160" y="42670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10440" y="5105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620120" y="44197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38188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7619760" y="52578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V="1">
            <a:off x="7391520" y="46483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315200" y="3276720"/>
            <a:ext cx="1447920" cy="761760"/>
          </a:xfrm>
          <a:prstGeom prst="cloudCallout">
            <a:avLst>
              <a:gd name="adj1" fmla="val -42106"/>
              <a:gd name="adj2" fmla="val 101041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er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6483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05720" y="4800600"/>
            <a:ext cx="5331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C5A44-E8DA-4630-947E-E392DC1D7FC0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DD55C47-E846-4E09-B0E4-6269FED00E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terson Algorithm Time C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each phase, the number of active processes is decreased by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h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pha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first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hases complete in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time to process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upperbound on output queue de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s, the time cost is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CB582-D7C8-48F1-BBCC-45D177FA7F3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63DB83A-864C-4C87-A298-CCD7D1DBA8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terson Algorithm Message C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t mos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1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each phase, each process sends at most two messages (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 cost = O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 log 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0219-4811-4760-AFDC-D0EF388485F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6B1050-F4CB-479F-91C0-E19E46586C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ion Lower B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unication lower bound of asynchronous comparison-based algorithms is Ω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ous rings is a restriction on asynchronous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Lynch section 15.1.4 for pro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4EDB2-D34C-414B-8B99-222B82CD81D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D157061E-96EC-4B88-A1C0-B726B28CFD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4: Asynchronous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direction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connected grap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cal processes except 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51680" y="1905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18360" y="31240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756400" y="25909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823080" y="365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042400" y="19810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985000" y="2133720"/>
            <a:ext cx="91440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203960" y="335232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137280" y="2971800"/>
            <a:ext cx="68580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213600" y="2286000"/>
            <a:ext cx="182880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5088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7128000" y="2362320"/>
            <a:ext cx="152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34696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32360" y="34290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V="1">
            <a:off x="5985000" y="2971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6289560" y="3733560"/>
            <a:ext cx="457200" cy="75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 flipH="1" flipV="1">
            <a:off x="7432200" y="228600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86640" y="2590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7088400" y="1905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093520" y="1976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53640" y="3108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74200" y="367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869440" y="3424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9B47-AD8A-4250-B9BB-0A9D7371A1F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E39A990-87B6-48BD-AF96-CF96F74BB3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nchronous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processing done in lock-step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ou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com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sage-passing is done between 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E367D-2FC2-4099-BFD2-9D46C12FBA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9E3A6F7-FF09-4CC7-BFF8-9B741AC1CE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ynchronous FloodMa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re are no rounds, FloodMax cannot be trivially extended to asynch.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arou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end round number to each mess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node collects all incoming round messages before processing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9D56-BCC0-496D-94B0-34DBAF131DD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35F293-7751-4006-BDC1-E5593CA35F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e techniq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other  general asynch. network protocols that 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nning Tree, Convergecast, and Broad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chronizers to simulate synchronous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ent snapshots for termination de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55573-DB2F-4FAC-B6BF-0FBF4AF358C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0B2B3-A20C-454A-B0A6-847FE06CAAD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many leader elec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al protocols exist for ring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orithms for asynchronous networks are more com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519A-08E6-4CA9-8A74-D389D90C330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0E7C378-3D64-480E-8704-9415228ED1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1: Synchronous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cesses connected in a 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es can distinguish clockwise from counterclockwise neighb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600200"/>
            <a:ext cx="38124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22096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32767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22096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1828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952520" y="26668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885840" y="3505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3352680" y="2666880"/>
            <a:ext cx="152640" cy="60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505320" y="19051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54680" y="161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69160" y="2232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465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62720" y="3281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51440" y="2228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FD5A0-3C70-4658-A998-45AA45C839D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7259FBA-2015-44F9-8F38-631765EF29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riations on the The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n-leaders may have to declare themselves as s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ng may be unidirectional or bidirec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node may or may not know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size of the 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65B1C-49DA-42D6-8EA4-1BFAD638D6E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6EB01E-4ACB-42EF-AAC4-5CC0CD6CEC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ed by Le Lann, Cha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Roberts  (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know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unidirectional ring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leader outp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 ide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rocess passes its UI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on reception, compare to own 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arger: Pass to nex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maller: Disc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qual: Declare self a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53360" y="81612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34408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962840" y="249228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743880" y="249228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38960" y="1425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810560" y="10447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8267400" y="188280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7200720" y="2720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6667200" y="18824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6819840" y="112032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69560" y="828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384040" y="1447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80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77600" y="24969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6320" y="144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0043-630D-4CAB-B0FC-67596BB792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4A07CE0-3EF3-41E1-85C0-EA2E7BB5DF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CR Algorithm Pro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r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of by induction 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unds, the nod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way from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be sending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 = n, UI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have traveled around the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633920" y="158760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2464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43400" y="3263760"/>
            <a:ext cx="38124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24440" y="3263760"/>
            <a:ext cx="380880" cy="3812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19520" y="2197080"/>
            <a:ext cx="380880" cy="38088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091120" y="1816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547960" y="2654280"/>
            <a:ext cx="2286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481280" y="34923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947760" y="265392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100400" y="189180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50120" y="1600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64600" y="2219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061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8160" y="326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46880" y="2216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1676520"/>
            <a:ext cx="660240" cy="1523880"/>
          </a:xfrm>
          <a:custGeom>
            <a:avLst/>
            <a:gdLst/>
            <a:ahLst/>
            <a:rect l="l" t="t" r="r" b="b"/>
            <a:pathLst>
              <a:path w="416" h="960">
                <a:moveTo>
                  <a:pt x="0" y="0"/>
                </a:moveTo>
                <a:cubicBezTo>
                  <a:pt x="176" y="112"/>
                  <a:pt x="352" y="224"/>
                  <a:pt x="384" y="384"/>
                </a:cubicBezTo>
                <a:cubicBezTo>
                  <a:pt x="416" y="544"/>
                  <a:pt x="304" y="752"/>
                  <a:pt x="192" y="9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478560" y="213372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35520" y="3352680"/>
            <a:ext cx="823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ID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791320" y="3429000"/>
            <a:ext cx="7617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867D4-2452-4F5D-9C7A-6963F5D37B8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BE6B74B-9A6B-465D-A346-A979478229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lting LC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CR algorithm never ha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leaders continuously listen for incoming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leader pass a report message around the 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general way to transform a non-halting algorithm into a halting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 Co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rou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dditional mess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S 673 Fall 200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9EE21-CB3C-495C-8122-533EDEA7182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E0EE4D6-A91D-4A6C-9EE2-D05D232542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3:25:07Z</dcterms:created>
  <dc:creator>liang</dc:creator>
  <dc:description/>
  <dc:language>en-US</dc:language>
  <cp:lastModifiedBy>ochipara</cp:lastModifiedBy>
  <dcterms:modified xsi:type="dcterms:W3CDTF">2003-09-05T14:06:09Z</dcterms:modified>
  <cp:revision>145</cp:revision>
  <dc:subject/>
  <dc:title>Leader Election</dc:title>
</cp:coreProperties>
</file>